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7DC-A166-4725-99BE-0A5D4E7F0331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2958-48CC-4DB0-9133-ADC1E68A95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C5D-FC3D-47B7-A2D2-4542C41A05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239-FEFE-4CA3-8697-A3EFB1883A8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285-28AB-43B6-B26E-632161AA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887-A8F5-46E7-B917-B346FD0B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868-1C65-439B-A674-99FCB19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3B5-F88D-4285-985E-B983C26E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157-32E8-4E6C-AB69-D3A717A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F77-4D8D-4CFD-B0B8-09E69AAE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9FF-3D44-4243-830B-E2A7068A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605-633F-4F5E-B9E8-CD1806F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540-42C3-4581-AA48-6038008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649-85D2-4F12-9ED5-396091F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6CA-5809-4719-A4AA-DE89E56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C24-7C88-4BE1-83FE-8ECCE6F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BA1-111F-4B3F-A2A1-948C67B104F3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SimSun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SimSun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SimSun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SimSun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muric91@gmail.com</cp:lastModifiedBy>
  <dcterms:modified xsi:type="dcterms:W3CDTF">2020-10-01T15:29:08Z</dcterms:modified>
  <cp:revision>84</cp:revision>
  <dc:subject/>
  <dc:title>OSNOVI PSIHOPATOLOGIJE</dc:title>
</cp:coreProperties>
</file>